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5752-5587-407B-B23B-52409213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0361-10D6-436C-894E-29043B53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C1759-070F-40F1-ADEB-0D8A06DF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AD45-9E3D-4613-B75A-53E77ADC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62C2-E701-449D-B057-3A21637A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D5BD-23AC-4B21-9A16-EC1A389D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0819-46FF-4AAE-B250-07D16905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2E8D-1304-4F68-A4AC-5DEED428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CBCB-C981-42DD-8794-F5742A00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0743-1997-4F4F-AF57-41931652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17C3-0B70-441B-8895-A6AB4712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3F5A-4948-43AF-939C-2FEFDAA2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7260-FB25-454D-8FB2-1930882D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A6D0-C04A-40A6-A65D-51B00C0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51C0-DF1A-4353-85F6-B37906A2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3EEC-36E8-43B6-8119-BF53A72B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D2D7-D912-4540-B97F-628D9EDB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2F674-216A-4348-80AC-2453959B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777B-F2BC-4E2A-9C41-6A8337B3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F961-3EDB-4901-9220-94C95AD4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5F1B-456F-4168-A1D5-30091368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CA83-0ED1-4286-A46F-4B232FEF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D8B0-9673-431F-8A58-80FB3D09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19B2-157F-4EB9-A883-1CF5B3E0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AF71-F3FE-4474-BCA8-3D82813BD446}" type="slidenum">
              <a:rPr b="0" lang="en-US" sz="1200" spc="-1" strike="noStrike">
                <a:solidFill>
                  <a:srgbClr val="6c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d2d0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d2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43508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d2d0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43508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d2d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d2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d2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d2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46E5-42F3-4976-AE85-F84791ABABD1}" type="slidenum">
              <a:rPr b="0" lang="en-US" sz="1200" spc="-1" strike="noStrike">
                <a:solidFill>
                  <a:srgbClr val="6c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d2d05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43508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d2d0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github.com/laravel/laravel/archive/master.zi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aravel.com/docs/controllers#resource-controllers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laravel.com/" TargetMode="External"/><Relationship Id="rId2" Type="http://schemas.openxmlformats.org/officeDocument/2006/relationships/hyperlink" Target="http://laravel.com/" TargetMode="External"/><Relationship Id="rId3" Type="http://schemas.openxmlformats.org/officeDocument/2006/relationships/hyperlink" Target="http://laravel.com/docs" TargetMode="External"/><Relationship Id="rId4" Type="http://schemas.openxmlformats.org/officeDocument/2006/relationships/hyperlink" Target="http://laravel.com/api/" TargetMode="External"/><Relationship Id="rId5" Type="http://schemas.openxmlformats.org/officeDocument/2006/relationships/hyperlink" Target="http://laravel.ru/docs/v4/" TargetMode="External"/><Relationship Id="rId6" Type="http://schemas.openxmlformats.org/officeDocument/2006/relationships/hyperlink" Target="http://packalyst.com/" TargetMode="Externa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ActiveRecord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182880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ARAVEL PHP FRAMEWORK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941360"/>
            <a:ext cx="601992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c0000"/>
                </a:solidFill>
                <a:latin typeface="Arial"/>
              </a:rPr>
              <a:t>Выполнила Аль-Амри Раша.</a:t>
            </a: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Составители представлений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view composers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блоки кода, которые выполняются при генерации представления (шаблона)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Инверсия управления 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Inversion of Control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позволяет получать экземпляры объектов по принципу обратного управления. Также может использоваться для создания и получения объектов-одиночек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singleton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Миграции — система управления версиями для баз данных.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Позволяет связывать изменения в коде приложения с изменениями, которые требуется внести в структуру БД, что упрощает развёртывание и обновление приложения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Модульное тестирование (юнит-тесты) —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играет очень большую роль в Laravel, который сам по себе содержит большое число тестов для предотвращения регрессий (ошибок вследствие обновления кода или исправления других ошибок)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Страничный вывод (англ. </a:t>
            </a:r>
            <a:r>
              <a:rPr b="0" i="1" lang="en" sz="2400" spc="-1" strike="noStrike">
                <a:solidFill>
                  <a:srgbClr val="6c0000"/>
                </a:solidFill>
                <a:latin typeface="Arial"/>
              </a:rPr>
              <a:t>pagination</a:t>
            </a: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) —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упрощает генерацию страниц, заменяя различные способы решения этой задачи единым механизмом, встроенным в Laravel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Environment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— в зависимости от домена, может подгружать те или иные конфигурационные файлы.</a:t>
            </a:r>
            <a:br>
              <a:rPr sz="2000"/>
            </a:b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Скажем, пропишем в файле paths.php  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Еще одна возможность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8388360" cy="1993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Теперь, если мы зайдем с домена начинающегося на localhost или заканчивающегося на .dev. Фреймворк будет подгружать файлы конфигов с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папки application/config/local/* вместо application/config/*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ля установки Laravel нам понадобится composer (менеджер зависимостей для 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PH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Теперь вам необходимо скачать последнюю версию </a:t>
            </a:r>
            <a:r>
              <a:rPr b="0" lang="ru-RU" sz="20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larave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После чего в корне вашего laravel приложения (тот каталог куда вы установили фреймворк) введите команду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php composer.phar instal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Установка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7993080" cy="1782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8360" y="5516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Готово, Фреймворк установлен </a:t>
            </a:r>
            <a:r>
              <a:rPr b="0" lang="en-US" sz="2000" spc="-1" strike="noStrike">
                <a:solidFill>
                  <a:srgbClr val="6c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Зайдя в каталог фреймворка мы увидим следующие каталоги: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Дирек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ap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хранится вся логика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bootstra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содержаться файлы инициализации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public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открытая часть нашего приложения, именно через index.php в этом каталоге будет работать приложение. Все файлы стилей/скриптов/картинки должны быть в этом каталоге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vendor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содержаться файлы непосредственно самого фреймворка, файлы в этом каталоге трогать не нужно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Также в корне содержатся два файла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mposer.json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файл настроек для 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composer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С помощью этого файла мы можем расширять фреймворк дополнительными компонентами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artisan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командная составляющая laravel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зберем основную директорию, с которой приходится чаще всего работать – директорию 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ap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В этом каталоге находится вся логика нашего приложения, а также конфигурационные файлы, логи, миграции, кэш и т.д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Дирек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/app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276640"/>
            <a:ext cx="82296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mmand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команд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nfig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в этом каталоге хранятся все файлы конфигурации нашего приложения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ntroller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находятся наши контроллеры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database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храниться файлы миграций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lang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языковые файлы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model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моделей нашего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start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выполняемые при запуске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storage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находятся файлы кэша, логи и т.д – данный каталог должен иметь права на запись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view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вида нашего приложения. В общем наши шаблоны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ссмотрим подробнее структуру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Larave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на примере проекта «Inotravel». Это веб-система для поиска бесплатного жилья для путешественников. Функции системы: любой пользователь может воспользоваться поиском жилья, подать заявку на бронь жилья (но уже предварительно авторизуясь), создать свой профиль жилья для сдачи.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2835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Пример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6767640" cy="3808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68360" y="630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1. Главная страница сайта «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Inotravel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Структура директории /app проекта «Inotravel»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519960" cy="4510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124000" y="573336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2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app/models были созданы модели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424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c0000"/>
                </a:solidFill>
                <a:latin typeface="Arial"/>
              </a:rPr>
              <a:t>Архитектура </a:t>
            </a:r>
            <a:r>
              <a:rPr b="1" i="1" lang="en" sz="3800" spc="-1" strike="noStrike">
                <a:solidFill>
                  <a:srgbClr val="6c0000"/>
                </a:solidFill>
                <a:latin typeface="Arial"/>
              </a:rPr>
              <a:t>Model View </a:t>
            </a:r>
            <a:r>
              <a:rPr b="1" i="1" lang="ru-RU" sz="3800" spc="-1" strike="noStrike">
                <a:solidFill>
                  <a:srgbClr val="6c0000"/>
                </a:solidFill>
                <a:latin typeface="Arial"/>
              </a:rPr>
              <a:t>С</a:t>
            </a:r>
            <a:r>
              <a:rPr b="1" i="1" lang="en" sz="3800" spc="-1" strike="noStrike">
                <a:solidFill>
                  <a:srgbClr val="6c0000"/>
                </a:solidFill>
                <a:latin typeface="Arial"/>
              </a:rPr>
              <a:t>ontroller</a:t>
            </a:r>
            <a:r>
              <a:rPr b="0" lang="ru-RU" sz="3800" spc="-1" strike="noStrike">
                <a:solidFill>
                  <a:srgbClr val="6c0000"/>
                </a:solidFill>
                <a:latin typeface="Arial"/>
              </a:rPr>
              <a:t> </a:t>
            </a:r>
            <a:endParaRPr b="0" lang="en-US" sz="3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488360" cy="3510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124000" y="573336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3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model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797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app/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view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были созданы шаблоны (верстка)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08000" y="573336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view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797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И самое интересное - в директории /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ap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controller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были созданы контроллеры: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423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63640" y="5733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controller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77979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ссмотрим их связь на примере авторизации функции «авторизация пользователя»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public/j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был создан файл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main.js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6840720" cy="4210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835280" y="609228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6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javascript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main.j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7797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Файл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route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php 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обавляет в регистр маршрутов все методы ресурса (</a:t>
            </a:r>
            <a:r>
              <a:rPr b="0" lang="ru-RU" sz="20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REST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5280" y="594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php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routes.php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920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340000" y="19155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Html-код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нопки «Войти»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8640720" cy="2658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19280" y="649044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php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UserController.ph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125280"/>
            <a:ext cx="7128000" cy="6383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А вот полезные и нужные ссылочки: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Официальный сайт 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2"/>
              </a:rPr>
              <a:t>фреймворка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Laravel по‐русски — сайт нашего сообщества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окументац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На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3"/>
              </a:rPr>
              <a:t>английском языке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 +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4"/>
              </a:rPr>
              <a:t>API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На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5"/>
              </a:rPr>
              <a:t>русском языке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Перевод соответствует версии 4.0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«Пакеты» (Packages) 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Для поиска пакетов для Laravel рекомендую воспользоваться замечательными сайтами: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6"/>
              </a:rPr>
              <a:t>Packalyst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 и</a:t>
            </a:r>
            <a:br>
              <a:rPr sz="1800"/>
            </a:b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Laravel Packages Registry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За новыми пакетами можно следить с помощью RSS и сообщений в twitter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И, конечно же, пакеты для Laravel можно и нужно искать на Packagist и Github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Хочу еще больше ссылок!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2835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Ссылк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640" y="1773360"/>
            <a:ext cx="5643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Спасибо</a:t>
            </a:r>
            <a:br>
              <a:rPr sz="5600"/>
            </a:b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c0000"/>
                </a:solidFill>
                <a:latin typeface="Arial"/>
              </a:rPr>
              <a:t>Laravel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— бесплатный веб-фреймворк с открытым кодом, предназначенный для разработки с использованием архитектурной модели </a:t>
            </a: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MVC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3200" spc="-1" strike="noStrike">
                <a:solidFill>
                  <a:srgbClr val="6c0000"/>
                </a:solidFill>
                <a:latin typeface="Arial"/>
              </a:rPr>
              <a:t>Model View Controller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— модель-представление-контроллер). Laravel выпущен под лицензией </a:t>
            </a: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MIT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. Исходный код проекта размещается на GitHub.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32720" y="6257160"/>
            <a:ext cx="3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был создан </a:t>
            </a:r>
            <a:r>
              <a:rPr b="1" lang="ru-RU" sz="3000" spc="-1" strike="noStrike">
                <a:solidFill>
                  <a:srgbClr val="6c0000"/>
                </a:solidFill>
                <a:latin typeface="Arial"/>
              </a:rPr>
              <a:t>Taylor Otwell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как более функциональная альтернатива 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CodeIgniter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, который не предусматривал различные дополнительные функции. Первый бета-релиз</a:t>
            </a:r>
            <a:r>
              <a:rPr b="0" lang="ru-RU" sz="3000" spc="-1" strike="noStrike">
                <a:solidFill>
                  <a:srgbClr val="c4350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</a:t>
            </a:r>
            <a:r>
              <a:rPr b="0" lang="ru-RU" sz="3000" spc="-1" strike="noStrike">
                <a:solidFill>
                  <a:srgbClr val="c43508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стал доступен 9 июня 2011 года, а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1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вышел в этом же месяце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1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включает в себя встроенную поддержку для аутентификации, локализации, модели, представления, сессий, маршрутизации и других механизмов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84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2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был выпущен в сентябре 2011 года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Основные новые функции включают в себя поддержку контроллеров, которые сделали фреймворк полностью 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MVC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-совместимым, встроенную поддержку для инверсии управления, и систему шаблонов </a:t>
            </a:r>
            <a:r>
              <a:rPr b="1" lang="ru-RU" sz="3000" spc="-1" strike="noStrike">
                <a:solidFill>
                  <a:srgbClr val="6c0000"/>
                </a:solidFill>
                <a:latin typeface="Arial"/>
              </a:rPr>
              <a:t>Blade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084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3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был выпущен в феврале 2012 года с набором новых функций, включая интерфейс командной строки (CLI) под именем "Artisan", встроенную поддержку нескольких систем управления базами данных, миграции баз данных в виде контроля версий, обработку событий. Выпуск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3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получил значительное увеличение числа пользователей, что повлияло на его популярность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5708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c0000"/>
                </a:solidFill>
                <a:latin typeface="Arial"/>
              </a:rPr>
              <a:t>Ключевые особенности, лежащие в основе архитектуры Laravel: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Пакеты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packages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позволяют создавать и подключать модули в формате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Composer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к приложению на Laravel. Многие дополнительные возможности уже доступны в виде таких модулей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Eloquent </a:t>
            </a:r>
            <a:r>
              <a:rPr b="0" i="1" lang="en-US" sz="2800" spc="-1" strike="noStrike">
                <a:solidFill>
                  <a:srgbClr val="6c0000"/>
                </a:solidFill>
                <a:latin typeface="Arial"/>
              </a:rPr>
              <a:t>ORM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реализация шаблона проектирования </a:t>
            </a:r>
            <a:r>
              <a:rPr b="0" lang="ru-RU" sz="28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ActiveRecord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на PHP. Позволяет строго определить отношения между объектами базы данных. Стандартный для Laravel построитель запросов Fluent поддерживается ядром Eloquent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5708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Логика приложения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часть разрабатываемого приложения, объявленная либо при помощи контроллеров, либо маршрутов (функций-замыканий). 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Обратная маршрутизация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связывает между собой генерируемые приложением ссылки и маршруты, позволяя изменять последние с автоматическим обновлением связанных ссылок. При создании ссылок с помощью именованных маршрутов Laravel автоматически генерирует конечные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URL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c0000"/>
                </a:solidFill>
                <a:latin typeface="Arial"/>
              </a:rPr>
              <a:t>REST</a:t>
            </a: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-контроллеры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дополнительный слой для разделения логики обработки GET- и POST-запросов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Автозагрузка классов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механизм автоматической загрузки классов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PHP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без необходимости подключать файлы их определений в </a:t>
            </a: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include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 Загрузка по требованию предотвращает загрузку ненужных компонентов; загружаются только те из них, которые действительно используются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4:19:26Z</dcterms:created>
  <dc:creator>student</dc:creator>
  <dc:description/>
  <dc:language>en-US</dc:language>
  <cp:lastModifiedBy>student</cp:lastModifiedBy>
  <dcterms:modified xsi:type="dcterms:W3CDTF">2015-12-16T21:22:15Z</dcterms:modified>
  <cp:revision>9</cp:revision>
  <dc:subject/>
  <dc:title>Слайд 1</dc:title>
</cp:coreProperties>
</file>